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919913" cy="10047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19200" cy="100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97360" cy="5032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21120" y="0"/>
            <a:ext cx="2997360" cy="5032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45720" y="754200"/>
            <a:ext cx="5025960" cy="376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600" rIns="936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2320" y="4773240"/>
            <a:ext cx="5073840" cy="4521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45760"/>
            <a:ext cx="2997360" cy="5032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21120" y="9545760"/>
            <a:ext cx="2997360" cy="5032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F2980-BC57-4CC2-84D1-A96BF45E535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46080" y="754200"/>
            <a:ext cx="5025960" cy="376848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22320" y="4773240"/>
            <a:ext cx="50738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Zástupný symbol pro číslo snímku 3"/>
          <p:cNvSpPr/>
          <p:nvPr/>
        </p:nvSpPr>
        <p:spPr>
          <a:xfrm>
            <a:off x="3921120" y="9545760"/>
            <a:ext cx="2997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0764B-D2B3-4D9C-8235-8D5AA3A032E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46080" y="754200"/>
            <a:ext cx="5025960" cy="376848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22320" y="4773240"/>
            <a:ext cx="50738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Zástupný symbol pro číslo snímku 3"/>
          <p:cNvSpPr/>
          <p:nvPr/>
        </p:nvSpPr>
        <p:spPr>
          <a:xfrm>
            <a:off x="3921120" y="9545760"/>
            <a:ext cx="2997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757FE-41EF-49DC-B3D4-A2CFED59464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46080" y="754200"/>
            <a:ext cx="5025960" cy="376848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22320" y="4773240"/>
            <a:ext cx="5073840" cy="4521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◦</a:t>
            </a: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dítě pravidelně navštěvuje léčebně rehabilitační zařízení nebo mateřskou školu nebo její třídu zřízenou pro zdravotně postižené děti či jesle se zaměřením na vady zraku, sluchu, řeči a na děti tělesně postižené a mentálně retardované v rozsahu nepřevyšujícím 4 hodiny denně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 ◦</a:t>
            </a: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zdravotně postižené dítě pravidelně navštěvuje předškolní zařízení v rozsahu nepřevyšujícím 6 hodin denně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 ◦</a:t>
            </a: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dítě navštěvuje předškolní zařízení v rozsahu nepřevyšujícím 4 hodiny denně, pokud jeho oba rodiče nebo osamělý rodič jsou osobami závislými na pomoci jiné osoby ve stupni III a IV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Zástupný symbol pro číslo snímku 3"/>
          <p:cNvSpPr/>
          <p:nvPr/>
        </p:nvSpPr>
        <p:spPr>
          <a:xfrm>
            <a:off x="3921120" y="9545760"/>
            <a:ext cx="2997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5269F-85D8-4941-914C-C792A876812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46080" y="754200"/>
            <a:ext cx="5025960" cy="37684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22320" y="4773240"/>
            <a:ext cx="50738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Zástupný symbol pro číslo snímku 3"/>
          <p:cNvSpPr/>
          <p:nvPr/>
        </p:nvSpPr>
        <p:spPr>
          <a:xfrm>
            <a:off x="3921120" y="9545760"/>
            <a:ext cx="2997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3B22D-F9FD-4051-A0CD-2487A2FEB8A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46080" y="754200"/>
            <a:ext cx="5025960" cy="376848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22320" y="4773240"/>
            <a:ext cx="5073840" cy="4521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K 1. 10. 1995 výše RP činila 1848,- Kč, bylo-li rodičem nezaopatřené dítě jednalo se o částku 1958,- Kč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Od 1. 1. 1996 to bylo 1980,- Kč a 2090,- Kč, bylo-li rodičem nezaopatřené dítě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Od roku 2007 -  částku vyhlašovalo MPSV ve Sbírce zákonů sdělením. Pro rok 2007 se tedy vycházelo z průměrné mzdy roku 2005 a rodičovský příspěvek od 1. 1. do 31. 12. 2007 činil 7.582,- Kč měsíčně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Zástupný symbol pro číslo snímku 3"/>
          <p:cNvSpPr/>
          <p:nvPr/>
        </p:nvSpPr>
        <p:spPr>
          <a:xfrm>
            <a:off x="3921120" y="9545760"/>
            <a:ext cx="2997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863ED-3A99-47EB-A927-E8C38956EEE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46080" y="754200"/>
            <a:ext cx="5025960" cy="376848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22320" y="4773240"/>
            <a:ext cx="5073840" cy="4521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Nárok na rodičovský příspěvek ve výši 11.400,- Kč měsíčně náleží rodiči až do dvou let věku dítěte, jestliže splnil tyto podmínk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rodiči vznikl nárok na peněžitou pomoc v mateřství nebo peněžitou pomoc nejméně ve výši 380,- Kč za den z důvodu porodu nebo převzetí dítěte zakládajícího nárok na rodičovský příspěvek do péče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rodič nejpozději do konce kalendářního měsíce následujícího po kalendářním měsíci, v němž dítě zakládající nárok na rodičovský příspěvek dosáhlo 22 týdnů života nebo 31 týdnů života, narodily-li se zároveň dvě nebo více dětí, provedl volbu, podle níž se rozhodl, že chce pobírat rodičovský příspěvek v uvedené výši do dvou let věku dítě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Zástupný symbol pro číslo snímku 3"/>
          <p:cNvSpPr/>
          <p:nvPr/>
        </p:nvSpPr>
        <p:spPr>
          <a:xfrm>
            <a:off x="3921120" y="9545760"/>
            <a:ext cx="2997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7A4E2-4C3B-41AF-B6E3-D80C51FDD55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46080" y="754200"/>
            <a:ext cx="5025960" cy="376848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22320" y="4773240"/>
            <a:ext cx="50738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Zástupný symbol pro číslo snímku 3"/>
          <p:cNvSpPr/>
          <p:nvPr/>
        </p:nvSpPr>
        <p:spPr>
          <a:xfrm>
            <a:off x="3921120" y="9545760"/>
            <a:ext cx="2997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7FB63-5D77-455D-B764-C6C8D685220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46080" y="754200"/>
            <a:ext cx="5025960" cy="376848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22320" y="4773240"/>
            <a:ext cx="50738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Zástupný symbol pro číslo snímku 3"/>
          <p:cNvSpPr/>
          <p:nvPr/>
        </p:nvSpPr>
        <p:spPr>
          <a:xfrm>
            <a:off x="3921120" y="9545760"/>
            <a:ext cx="2997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08824-C89B-4A75-9C29-73798A48819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46080" y="754200"/>
            <a:ext cx="5025960" cy="37684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22320" y="4773240"/>
            <a:ext cx="50738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Zástupný symbol pro číslo snímku 3"/>
          <p:cNvSpPr/>
          <p:nvPr/>
        </p:nvSpPr>
        <p:spPr>
          <a:xfrm>
            <a:off x="3921120" y="9545760"/>
            <a:ext cx="2997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F9F21-38D0-4206-8E54-217032D4078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46080" y="754200"/>
            <a:ext cx="5025960" cy="37684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22320" y="4773240"/>
            <a:ext cx="50738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Zástupný symbol pro číslo snímku 3"/>
          <p:cNvSpPr/>
          <p:nvPr/>
        </p:nvSpPr>
        <p:spPr>
          <a:xfrm>
            <a:off x="3921120" y="9545760"/>
            <a:ext cx="2997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2B234-B7BF-4350-8EC1-C7A761AF6A2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46080" y="754200"/>
            <a:ext cx="5025960" cy="37684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22320" y="4773240"/>
            <a:ext cx="50738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Zástupný symbol pro číslo snímku 3"/>
          <p:cNvSpPr/>
          <p:nvPr/>
        </p:nvSpPr>
        <p:spPr>
          <a:xfrm>
            <a:off x="3921120" y="9545760"/>
            <a:ext cx="2997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2F2CE-0715-4310-BEF3-422F3E685C4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46080" y="754200"/>
            <a:ext cx="5025960" cy="37684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22320" y="4773240"/>
            <a:ext cx="50738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Zástupný symbol pro číslo snímku 3"/>
          <p:cNvSpPr/>
          <p:nvPr/>
        </p:nvSpPr>
        <p:spPr>
          <a:xfrm>
            <a:off x="3921120" y="9545760"/>
            <a:ext cx="2997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4609B-49CC-449D-9C9B-E57A772B0BF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46080" y="754200"/>
            <a:ext cx="5025960" cy="376848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22320" y="4773240"/>
            <a:ext cx="50738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Zástupný symbol pro číslo snímku 3"/>
          <p:cNvSpPr/>
          <p:nvPr/>
        </p:nvSpPr>
        <p:spPr>
          <a:xfrm>
            <a:off x="3921120" y="9545760"/>
            <a:ext cx="2997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92000-3ABA-4CBA-BA02-5A81F1EFC2B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46080" y="754200"/>
            <a:ext cx="5025960" cy="37684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22320" y="4773240"/>
            <a:ext cx="50738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Zástupný symbol pro číslo snímku 3"/>
          <p:cNvSpPr/>
          <p:nvPr/>
        </p:nvSpPr>
        <p:spPr>
          <a:xfrm>
            <a:off x="3921120" y="9545760"/>
            <a:ext cx="2997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14C25-2E75-481E-A0AA-464AD9827E2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46080" y="754200"/>
            <a:ext cx="5025960" cy="37684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22320" y="4773240"/>
            <a:ext cx="50738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Zástupný symbol pro číslo snímku 3"/>
          <p:cNvSpPr/>
          <p:nvPr/>
        </p:nvSpPr>
        <p:spPr>
          <a:xfrm>
            <a:off x="3921120" y="9545760"/>
            <a:ext cx="2997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6C4D1-9F20-4028-9103-D3A4C093AE0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46080" y="754200"/>
            <a:ext cx="5025960" cy="37684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22320" y="4773240"/>
            <a:ext cx="50738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Zástupný symbol pro číslo snímku 3"/>
          <p:cNvSpPr/>
          <p:nvPr/>
        </p:nvSpPr>
        <p:spPr>
          <a:xfrm>
            <a:off x="3921120" y="9545760"/>
            <a:ext cx="2997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1CB68-9659-4F76-9FE2-0DB4BD0C96E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46080" y="754200"/>
            <a:ext cx="5025960" cy="37684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22320" y="4773240"/>
            <a:ext cx="50738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Zástupný symbol pro číslo snímku 3"/>
          <p:cNvSpPr/>
          <p:nvPr/>
        </p:nvSpPr>
        <p:spPr>
          <a:xfrm>
            <a:off x="3921120" y="9545760"/>
            <a:ext cx="2997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674B2-D9A3-40D4-8708-52570AA9A89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946080" y="754200"/>
            <a:ext cx="5025960" cy="37684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22320" y="4773240"/>
            <a:ext cx="50738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Zástupný symbol pro číslo snímku 3"/>
          <p:cNvSpPr/>
          <p:nvPr/>
        </p:nvSpPr>
        <p:spPr>
          <a:xfrm>
            <a:off x="3921120" y="9545760"/>
            <a:ext cx="2997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06170-9BA0-421D-AC19-C36DBEA83BB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946080" y="754200"/>
            <a:ext cx="5025960" cy="37684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22320" y="4773240"/>
            <a:ext cx="50738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Zástupný symbol pro číslo snímku 3"/>
          <p:cNvSpPr/>
          <p:nvPr/>
        </p:nvSpPr>
        <p:spPr>
          <a:xfrm>
            <a:off x="3921120" y="9545760"/>
            <a:ext cx="2997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A6C4F-414F-41FB-9043-6B0EA522382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946080" y="754200"/>
            <a:ext cx="5025960" cy="37684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22320" y="4773240"/>
            <a:ext cx="50738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Zástupný symbol pro číslo snímku 3"/>
          <p:cNvSpPr/>
          <p:nvPr/>
        </p:nvSpPr>
        <p:spPr>
          <a:xfrm>
            <a:off x="3921120" y="9545760"/>
            <a:ext cx="2997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6012C-71C2-4CCA-8B96-8E784C9AC52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46080" y="754200"/>
            <a:ext cx="5025960" cy="37684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22320" y="4773240"/>
            <a:ext cx="50738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Zástupný symbol pro číslo snímku 3"/>
          <p:cNvSpPr/>
          <p:nvPr/>
        </p:nvSpPr>
        <p:spPr>
          <a:xfrm>
            <a:off x="3921120" y="9545760"/>
            <a:ext cx="2997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3F259-27A3-47EB-8F67-764E16684FF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946080" y="754200"/>
            <a:ext cx="5025960" cy="376848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22320" y="4773240"/>
            <a:ext cx="50738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Zástupný symbol pro číslo snímku 3"/>
          <p:cNvSpPr/>
          <p:nvPr/>
        </p:nvSpPr>
        <p:spPr>
          <a:xfrm>
            <a:off x="3921120" y="9545760"/>
            <a:ext cx="2997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3A95B-611C-4064-8B22-894DD9850E6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46080" y="754200"/>
            <a:ext cx="5025960" cy="376848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22320" y="4773240"/>
            <a:ext cx="50738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Zástupný symbol pro číslo snímku 3"/>
          <p:cNvSpPr/>
          <p:nvPr/>
        </p:nvSpPr>
        <p:spPr>
          <a:xfrm>
            <a:off x="3921120" y="9545760"/>
            <a:ext cx="2997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7D5E8-A3B0-42E3-88E5-EFBBB2D42CD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46080" y="754200"/>
            <a:ext cx="5025960" cy="376848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22320" y="4773240"/>
            <a:ext cx="50738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Zástupný symbol pro číslo snímku 3"/>
          <p:cNvSpPr/>
          <p:nvPr/>
        </p:nvSpPr>
        <p:spPr>
          <a:xfrm>
            <a:off x="3921120" y="9545760"/>
            <a:ext cx="2997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F7C7A-DA28-41D6-8EE4-C1BC39DF00F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A78B-CF6D-421C-A618-7882AD686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1DD8-BDE7-4835-A3F6-815B00041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67EF-D49B-44E7-B619-56A77D431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A510-9162-4B59-98DB-DD04344B6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9787-50C9-491D-8783-E72328305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849D-8C04-4C6C-870A-366393D78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CF45-DA23-487C-B90F-D86FE1FDE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62A3-FC45-4509-87E3-1E8048F95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98A6-8A91-48F0-884F-FB9EAB7B5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057D-A650-40F9-8A4F-6A482BCB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2238-9FB2-4E13-88CF-3D977814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0B09-A841-49AB-8AB3-6894FA175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ADDCB-D8DC-469A-B128-47D0A85F3E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uvodst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7"/>
          <p:cNvSpPr/>
          <p:nvPr/>
        </p:nvSpPr>
        <p:spPr>
          <a:xfrm>
            <a:off x="2590920" y="1413000"/>
            <a:ext cx="5943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99"/>
                </a:solidFill>
                <a:latin typeface="Arial"/>
              </a:rPr>
              <a:t>Rodičovský příspěvek a jiné rodinné dávky v nepojistných systémech sociálního zabezpeč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2124000" y="4800600"/>
            <a:ext cx="71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Mgr. Eva Jank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Legislativní odbor MPS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pruh"/>
          <p:cNvPicPr/>
          <p:nvPr/>
        </p:nvPicPr>
        <p:blipFill>
          <a:blip r:embed="rId1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684360" y="260280"/>
            <a:ext cx="8459640" cy="65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ocházka do předškolního zaříz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Do 31. 12. 1997 byl nárok na rodičovský příspěvek zachován jen, pokud dítě pravidelně navštěvovalo léčebně rehabilitační zařízení a pokud taková návštěva zařízení nepřevyšovala čtyři hodiny denně a u dětí dlouhodobě těžce zdravotně postižených nebo dlouhodobě zdravotně postižených byla povolena i návštěva jeslí, mateřské školy nebo jiného předškolního zařízení, pokud rovněž nepřevyšovala čtyři hodiny denně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Od 1. 1. 1998 novelou se také rozšířila možnost umisťovat </a:t>
            </a:r>
            <a:r>
              <a:rPr b="1" lang="cs-CZ" sz="2500" spc="-1" strike="noStrike" u="sng">
                <a:solidFill>
                  <a:srgbClr val="000000"/>
                </a:solidFill>
                <a:uFillTx/>
                <a:latin typeface="Arial"/>
              </a:rPr>
              <a:t>i zdravé děti </a:t>
            </a: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v zařízeních pro předškolní děti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pruh"/>
          <p:cNvPicPr/>
          <p:nvPr/>
        </p:nvPicPr>
        <p:blipFill>
          <a:blip r:embed="rId1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684360" y="260280"/>
            <a:ext cx="8459640" cy="64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I zdravé děti mohly začít navštěvovat jesle, mateřskou školu nebo jiné obdobné zařízení nejvýše 3 kalendářní dny v kalendářním měsíc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Od 1. 10. 2001 se počet kalendářních dnů, ve kterých mohlo dítě pobývat v zařízení, a zároveň zůstal zachován nárok na rodičovský příspěvek, zvýšil na 5 kalendářních dnů v kalendářním měsíc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Od ledna 2006 dítě, které dovršilo tří let věku mohlo pravidelně navštěvovat mateřskou školu nebo jiné obdobné zařízení v rozsahu nepřevyšujícím 4 hodiny denně, stále zároveň platilo, že dítě mladší tří let tyto zařízení mohlo navštěvovat v rozsahu 5 kalendářních dnů v měsíci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pruh"/>
          <p:cNvPicPr/>
          <p:nvPr/>
        </p:nvPicPr>
        <p:blipFill>
          <a:blip r:embed="rId1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"/>
          <p:cNvSpPr/>
          <p:nvPr/>
        </p:nvSpPr>
        <p:spPr>
          <a:xfrm>
            <a:off x="684360" y="260280"/>
            <a:ext cx="8459640" cy="89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Dnes rozlišujeme péči o děti, které dosáhly 2 let věku a děti, které 2 let věku nedosáhl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 u="sng">
                <a:solidFill>
                  <a:srgbClr val="000000"/>
                </a:solidFill>
                <a:uFillTx/>
                <a:latin typeface="Arial"/>
              </a:rPr>
              <a:t>U dětí starších 2 let návštěvu předškolních zařízení nesledujem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 u="sng">
                <a:solidFill>
                  <a:srgbClr val="000000"/>
                </a:solidFill>
                <a:uFillTx/>
                <a:latin typeface="Arial"/>
              </a:rPr>
              <a:t>U dětí do 2 let návštěva předškolních zařízení max. 46 hodin v kalendářním měsíc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Pro zdravotně postižené děti jsou stanoveny výjimky, stejně tak pro rodiče závislé na pomoci jiné osoby ve stupni III nebo IV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Péče o dítě může být zajištěna také jinou zletilou osobou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pruh"/>
          <p:cNvPicPr/>
          <p:nvPr/>
        </p:nvPicPr>
        <p:blipFill>
          <a:blip r:embed="rId1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684360" y="260280"/>
            <a:ext cx="8459640" cy="35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Návrh na změnu týkající se docházky do předškolních zaříz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Dnes je diskutován návrh na úplné zrušení podmínky sledování docházky dítěte do předškolního zařízení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pruh"/>
          <p:cNvPicPr/>
          <p:nvPr/>
        </p:nvPicPr>
        <p:blipFill>
          <a:blip r:embed="rId1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684360" y="260280"/>
            <a:ext cx="8459640" cy="72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Konstrukce výše rodičovského příspěv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Od 1995 RP náležel ve výši </a:t>
            </a:r>
            <a:r>
              <a:rPr b="1" lang="cs-CZ" sz="2500" spc="-1" strike="noStrike" u="sng">
                <a:solidFill>
                  <a:srgbClr val="000000"/>
                </a:solidFill>
                <a:uFillTx/>
                <a:latin typeface="Arial"/>
              </a:rPr>
              <a:t>1,1 násobku částky ŽM </a:t>
            </a: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stanovené jako potřebné na výživu a ostatní základní osobní potřeby rodič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Od 1. 5. 2004 zvýšen koeficient na </a:t>
            </a:r>
            <a:r>
              <a:rPr b="1" lang="cs-CZ" sz="2500" spc="-1" strike="noStrike" u="sng">
                <a:solidFill>
                  <a:srgbClr val="000000"/>
                </a:solidFill>
                <a:uFillTx/>
                <a:latin typeface="Arial"/>
              </a:rPr>
              <a:t>1,54 </a:t>
            </a: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Od 2007 výše RP odpovídala </a:t>
            </a:r>
            <a:r>
              <a:rPr b="1" lang="cs-CZ" sz="2500" spc="-1" strike="noStrike" u="sng">
                <a:solidFill>
                  <a:srgbClr val="000000"/>
                </a:solidFill>
                <a:uFillTx/>
                <a:latin typeface="Arial"/>
              </a:rPr>
              <a:t>40 % průměrné měsíční mzdy v nepodnikatelské sféře</a:t>
            </a: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 za kal. rok, který o dva roky předcházel kal. roku, v němž byl příspěvek poskytová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Velká koncepční změna od 1. 1. 2008 – čerpání RP v tzv. </a:t>
            </a:r>
            <a:r>
              <a:rPr b="1" lang="cs-CZ" sz="2500" spc="-1" strike="noStrike" u="sng">
                <a:solidFill>
                  <a:srgbClr val="000000"/>
                </a:solidFill>
                <a:uFillTx/>
                <a:latin typeface="Arial"/>
              </a:rPr>
              <a:t>vícerychlostní struktuř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pruh"/>
          <p:cNvPicPr/>
          <p:nvPr/>
        </p:nvPicPr>
        <p:blipFill>
          <a:blip r:embed="rId1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684360" y="260280"/>
            <a:ext cx="8459640" cy="69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 u="sng">
                <a:solidFill>
                  <a:srgbClr val="000000"/>
                </a:solidFill>
                <a:uFillTx/>
                <a:latin typeface="Arial"/>
              </a:rPr>
              <a:t>Velká koncepční změna od 1. 1. 2008 – čerpání RP v tzv. vícerychlostní struktuř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Rodič může volit čerpání RP po dobu dvou, tří nebo čtyř let věku dítět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RP stanoven ve třech výších daných v pevných měsíčních částkách – zvýšená výměra 11.400,- Kč, základní výměra 7.600,- Kč a snížená výměra 3.800,- K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Nárok na RP </a:t>
            </a:r>
            <a:r>
              <a:rPr b="1" lang="cs-CZ" sz="2500" spc="-1" strike="noStrike" u="sng">
                <a:solidFill>
                  <a:srgbClr val="000000"/>
                </a:solidFill>
                <a:uFillTx/>
                <a:latin typeface="Arial"/>
              </a:rPr>
              <a:t>podle plnění stanovených podmínek a volby rodiče</a:t>
            </a: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 náležel ve třech výších, a to ve zvýšené výměře do dvou let věku dítěte, v základní výměře až do tří let věku dítěte a ve snížené výměře až do čtyř let věku dítět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pruh"/>
          <p:cNvPicPr/>
          <p:nvPr/>
        </p:nvPicPr>
        <p:blipFill>
          <a:blip r:embed="rId1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3"/>
          <p:cNvSpPr/>
          <p:nvPr/>
        </p:nvSpPr>
        <p:spPr>
          <a:xfrm>
            <a:off x="684360" y="260280"/>
            <a:ext cx="8459640" cy="69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 u="sng">
                <a:solidFill>
                  <a:srgbClr val="000000"/>
                </a:solidFill>
                <a:uFillTx/>
                <a:latin typeface="Arial"/>
              </a:rPr>
              <a:t>Zásadní změna v koncepci RP v roce 2012 – platí dodn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Péče o nejmladší dítě v rodině </a:t>
            </a:r>
            <a:r>
              <a:rPr b="1" lang="cs-CZ" sz="2500" spc="-1" strike="noStrike" u="sng">
                <a:solidFill>
                  <a:srgbClr val="000000"/>
                </a:solidFill>
                <a:uFillTx/>
                <a:latin typeface="Arial"/>
              </a:rPr>
              <a:t>max. do 4 let věku</a:t>
            </a: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, a to nejdéle do doby, kdy byla vyplacena částka </a:t>
            </a:r>
            <a:r>
              <a:rPr b="1" lang="cs-CZ" sz="2500" spc="-1" strike="noStrike" u="sng">
                <a:solidFill>
                  <a:srgbClr val="000000"/>
                </a:solidFill>
                <a:uFillTx/>
                <a:latin typeface="Arial"/>
              </a:rPr>
              <a:t>220.000,- K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Pro výši čerpání je důležitý denní vyměřovací základ pro peněžitou pomoc v mateřství či nemocenskou v souvislosti s porodem nebo převzetím dítěte – </a:t>
            </a:r>
            <a:r>
              <a:rPr b="1" lang="cs-CZ" sz="2500" spc="-1" strike="noStrike" u="sng">
                <a:solidFill>
                  <a:srgbClr val="000000"/>
                </a:solidFill>
                <a:uFillTx/>
                <a:latin typeface="Arial"/>
              </a:rPr>
              <a:t>DVZ otce či matk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 u="sng">
                <a:solidFill>
                  <a:srgbClr val="000000"/>
                </a:solidFill>
                <a:uFillTx/>
                <a:latin typeface="Arial"/>
              </a:rPr>
              <a:t>Pokud DVZ nelze stanovit </a:t>
            </a: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– rodič nevolí a čerpá 7600,- Kč do konce 9 měsíce po porodu, dále 3800,- Kč až do 4 let věku dítět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 u="sng">
                <a:solidFill>
                  <a:srgbClr val="000000"/>
                </a:solidFill>
                <a:uFillTx/>
                <a:latin typeface="Arial"/>
              </a:rPr>
              <a:t>70% 30násobku DVZ je vyšší než 7600,- Kč,</a:t>
            </a: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 může volit RP až do výše 11500,- Kč, max. však 70% 30násobku DVZ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pruh"/>
          <p:cNvPicPr/>
          <p:nvPr/>
        </p:nvPicPr>
        <p:blipFill>
          <a:blip r:embed="rId1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684360" y="260280"/>
            <a:ext cx="845964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 u="sng">
                <a:solidFill>
                  <a:srgbClr val="000000"/>
                </a:solidFill>
                <a:uFillTx/>
                <a:latin typeface="Arial"/>
              </a:rPr>
              <a:t>70% 30násobku DVZ je nižší než 7600,- Kč,</a:t>
            </a: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  může volit do 7600,- Kč (také pokud RP navazuje u dalšího dítěte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Volbu výše RP lze měnit po 3 kalendářních měsících běžící výplat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Nárok zakládá vždy nejmladší dítě v rodině, narozením druhého nárok na původní RP zaniká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Nárok na RP při péči o totéž dítě náleží jen jednomu rodiči na základě jejich dohody (problém střídavé péče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Žádat lze maximálně 3 měsíce zpětně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pruh"/>
          <p:cNvPicPr/>
          <p:nvPr/>
        </p:nvPicPr>
        <p:blipFill>
          <a:blip r:embed="rId1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684360" y="260280"/>
            <a:ext cx="8459640" cy="68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Současná koncepce RP je oproti původní koncepci značně posunut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Trend slaďování profesního a rodinného života měl na RP značný vliv – přestala se omezovat výdělečná činnost rodiče, stále více se rozvolňuje podmínka sledování docházky dítěte do předškolního zařízení, </a:t>
            </a:r>
            <a:r>
              <a:rPr b="1" lang="cs-CZ" sz="2500" spc="-1" strike="noStrike" u="sng">
                <a:solidFill>
                  <a:srgbClr val="000000"/>
                </a:solidFill>
                <a:uFillTx/>
                <a:latin typeface="Arial"/>
              </a:rPr>
              <a:t>dnes se uvažuje o tom, že se docházka do předškolního zařízení nebude vůbec sledov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Původní myšlenka RP byla nahradit rodiči ušlý příjem, aby mohl osobně a celodenně pečovat o dítě, dnes je trend takový, že </a:t>
            </a:r>
            <a:r>
              <a:rPr b="1" lang="cs-CZ" sz="2500" spc="-1" strike="noStrike" u="sng">
                <a:solidFill>
                  <a:srgbClr val="000000"/>
                </a:solidFill>
                <a:uFillTx/>
                <a:latin typeface="Arial"/>
              </a:rPr>
              <a:t>RP je spíše dávkou na péči o dítě (ať v zařízení nebo jinou zletilou osobou) </a:t>
            </a: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– rodič ji může využít např. k hrazení placených služeb péče o předškolní děti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RP nereaguje na počet dětí v rodině, případný problém vícerčat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pruh"/>
          <p:cNvPicPr/>
          <p:nvPr/>
        </p:nvPicPr>
        <p:blipFill>
          <a:blip r:embed="rId1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684360" y="260280"/>
            <a:ext cx="8459640" cy="636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Navrhované úpravy rodičovského příspěvku pro lepší sladění pracovního a rodinného živo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Možnost vyčerpat RP již do jednoho roku věku dítěte – flexibilita k rychlejšímu a vyššímu čerpání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Měsíční výše RP může být zvolena až do výše peněžité pomoci v mateřství – zrušen strop 11500,- K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Od zvolené výše se potom bude odvíjet doba čerpání celkové částky 220.000,- K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Osoby, kterým nelze vyměřit PPM by mohly nově volit RP až do výše 7600,- Kč (dnes jen do 9. měsíce věku dítěte, pak 3800,- Kč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Úplné zrušení podmínky sledování docházky dítěte v předškolním zařízení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pruh"/>
          <p:cNvPicPr/>
          <p:nvPr/>
        </p:nvPicPr>
        <p:blipFill>
          <a:blip r:embed="rId1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685800" y="260280"/>
            <a:ext cx="8458200" cy="63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Vymezení systému nepojistných sociálních dáv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Nepojistné sociální dávky – na rozdíl od pojistných dávek jsou poskytovány v případech, na které není možné se předem připravit v režimu sociálního pojištění, nelze tedy odložit část prostředků k řešení budoucí sociální situa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Nárok na ně není podmíněn předchozí výdělečnou činností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 u="sng">
                <a:solidFill>
                  <a:srgbClr val="000000"/>
                </a:solidFill>
                <a:uFillTx/>
                <a:latin typeface="Arial"/>
              </a:rPr>
              <a:t>Nárok na ně je tedy bez ohledu na pracovní aktivitu a pojištění příjemce či rodinného příslušník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pruh"/>
          <p:cNvPicPr/>
          <p:nvPr/>
        </p:nvPicPr>
        <p:blipFill>
          <a:blip r:embed="rId1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684360" y="260280"/>
            <a:ext cx="8459640" cy="63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Služby péče o předškolní dě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K lepšímu slaďování pracovního a rodinného života by bylo vhodné více podporovat rozvoj sítě služeb pro dět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Zrušení jeslí jako zdravotnického zařízení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Státem garantované a dozorované služby péče o předškolní děti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Provozované na základě živnostenského oprávnění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Podle školského zákona - MŠ, problém umístit dítě mladší tří let, někdy i to tříleté – záměr MŠMT zavést novelizací školského zákona právní nárok na místo v MŠ, pro děti od 4 let od roku 2017, pro děti od 3 let od roku 201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Dětské skupin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pruh"/>
          <p:cNvPicPr/>
          <p:nvPr/>
        </p:nvPicPr>
        <p:blipFill>
          <a:blip r:embed="rId1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684360" y="260280"/>
            <a:ext cx="8459640" cy="39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Dětské skupi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MPSV v současné době eviduje 47 registrovaných dětských skupin, dalších 13 žádostí zpracovávám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Od října vyhlášení výzev z ESF na zřízení a provoz dětských skupin (118 mil. Kč pro žadatele z Prahy a 882 mil. Kč pro ostatní kraje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pruh"/>
          <p:cNvPicPr/>
          <p:nvPr/>
        </p:nvPicPr>
        <p:blipFill>
          <a:blip r:embed="rId1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"/>
          <p:cNvSpPr/>
          <p:nvPr/>
        </p:nvSpPr>
        <p:spPr>
          <a:xfrm>
            <a:off x="684360" y="260280"/>
            <a:ext cx="8459640" cy="73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Pilotní projekt mikrojes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Další doplněk k již existujícím službám péče o dět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Jedná se o pilotní projekt financovaný z ESF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Pro děti od 6 měsíců v malém kolektivu do čtyř dětí na pečující osobu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Realizace ve třech regionech ČR, kde je největší poptávka po zařízeních předškolní péče – Praha, Střední Čechy, Jihomoravský kraj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Služba bude zřizována a provozována přímo obcemi nebo neziskovými organizacem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Zahájení projektu začátek roku 201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Alokace finančních prostředků na pilotní projekt ve výši 50 mil. K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pruh"/>
          <p:cNvPicPr/>
          <p:nvPr/>
        </p:nvPicPr>
        <p:blipFill>
          <a:blip r:embed="rId1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"/>
          <p:cNvSpPr/>
          <p:nvPr/>
        </p:nvSpPr>
        <p:spPr>
          <a:xfrm>
            <a:off x="684360" y="260280"/>
            <a:ext cx="8459640" cy="72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Přídavek na dít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Základní dlouhodobá dávka poskytovaná rodinám s dětmi s příjmem do 2,4násobku životního minim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Posuzuje se příjem za předchozí ro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Nyní pevné částky podle věku dítět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do 6 let = 500,- K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6 až 15 let = 610,- K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15 až 26 let = 700,- K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Dříve výše dávky navázaná na životní minimum, dnes PnD stanoveny absolutními částkami, což zamezilo automatické valorizac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Přídavky na děti se tak již několik let vyplácí ve stejné výši bez ohledu na zvyšující se náklady při péči o dět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pruh"/>
          <p:cNvPicPr/>
          <p:nvPr/>
        </p:nvPicPr>
        <p:blipFill>
          <a:blip r:embed="rId1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3"/>
          <p:cNvSpPr/>
          <p:nvPr/>
        </p:nvSpPr>
        <p:spPr>
          <a:xfrm>
            <a:off x="684360" y="260280"/>
            <a:ext cx="8459640" cy="75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Porod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Dříve dávka vyplácená plošně, nesledoval se příjem rodin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Dnes dávka tzv. testovaná – jednorázová dávka poskytovaná rodinám s příjmem do 2,7násobku životního minim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Změna od 1. 1. 2015 - na první dítě se vyplácí </a:t>
            </a:r>
            <a:r>
              <a:rPr b="1" lang="cs-CZ" sz="2500" spc="-1" strike="noStrike" u="sng">
                <a:solidFill>
                  <a:srgbClr val="000000"/>
                </a:solidFill>
                <a:uFillTx/>
                <a:latin typeface="Arial"/>
              </a:rPr>
              <a:t>13.000</a:t>
            </a: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 Kč a na druhé dítě se vyplácí </a:t>
            </a:r>
            <a:r>
              <a:rPr b="1" lang="cs-CZ" sz="2500" spc="-1" strike="noStrike" u="sng">
                <a:solidFill>
                  <a:srgbClr val="000000"/>
                </a:solidFill>
                <a:uFillTx/>
                <a:latin typeface="Arial"/>
              </a:rPr>
              <a:t>10.000 Kč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Každé ženě, která porodila, případně dalším osobám uvedeným v ZSSP, se může tedy vyplatit porodné v maximální výši </a:t>
            </a:r>
            <a:r>
              <a:rPr b="1" lang="cs-CZ" sz="2500" spc="-1" strike="noStrike" u="sng">
                <a:solidFill>
                  <a:srgbClr val="000000"/>
                </a:solidFill>
                <a:uFillTx/>
                <a:latin typeface="Arial"/>
              </a:rPr>
              <a:t>23.000 Kč</a:t>
            </a: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, bez ohledu na počet porodů (dvojčata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porodné z důvodu převzetí dítěte do péče – u dětí do 1 roku – osvojení, nebo péče před osvojením - péče není kryta dávkami pěstounské péč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6" descr="uvodst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7"/>
          <p:cNvSpPr/>
          <p:nvPr/>
        </p:nvSpPr>
        <p:spPr>
          <a:xfrm>
            <a:off x="1908000" y="1413000"/>
            <a:ext cx="7560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66"/>
                </a:solidFill>
                <a:latin typeface="Arial"/>
              </a:rPr>
              <a:t>Děkuji Vám za pozornos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pruh"/>
          <p:cNvPicPr/>
          <p:nvPr/>
        </p:nvPicPr>
        <p:blipFill>
          <a:blip r:embed="rId1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685800" y="260280"/>
            <a:ext cx="8458200" cy="71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Společné rysy všech oblastí systému nepojistných sociálních dáv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Provádění a organizace je v působnosti státního orgánu – Úřad práce, odvolání MPSV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Rozhodování o dávkách probíhá ve správním řízení – zahájení řízení na základě žádosti na předepsaném tiskopise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Pro každý dávkový systém je vytvořen aplikační progra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Všechny údaje jsou vedeny v Jednotném informačním systému práce a sociálních věcí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Náklady na dávky a jejich administraci jsou hrazeny ze státního rozpočtu – zdrojem prostředků je všeobecné zdanění a samotné dávky jsou mandatorními výdaj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pruh"/>
          <p:cNvPicPr/>
          <p:nvPr/>
        </p:nvPicPr>
        <p:blipFill>
          <a:blip r:embed="rId1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6"/>
          <p:cNvSpPr/>
          <p:nvPr/>
        </p:nvSpPr>
        <p:spPr>
          <a:xfrm>
            <a:off x="685800" y="260280"/>
            <a:ext cx="8458200" cy="63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Jednotlivé systémy nepojistných sociálních dáv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moc v hmotné nouzi -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říspěvek na živobytí, doplatek na bydlení, mimořádná okamžitá pomo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Osoby se zdravotním postižením -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říspěvek na mobilitu, příspěvek na zvláštní pomůcku, průkaz osoby se zdravotním postižení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říspěvek na péč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Státní sociální podp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pruh"/>
          <p:cNvPicPr/>
          <p:nvPr/>
        </p:nvPicPr>
        <p:blipFill>
          <a:blip r:embed="rId1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"/>
          <p:cNvSpPr/>
          <p:nvPr/>
        </p:nvSpPr>
        <p:spPr>
          <a:xfrm>
            <a:off x="685800" y="260280"/>
            <a:ext cx="8458200" cy="69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Státní sociální podp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=soustava zaopatřovacích dávek pro rodiny s dětmi, které jsou poskytované ze státního rozpoč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=nárok na většinu těchto dávek je podmíněn přítomností nezaopatřeného dítě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Přídavek na dítě – opakující se dávk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Rodičovský příspěvek – opakující se dávk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Příspěvek na bydlení – opakující se dávk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Porodné – jednorázová dávk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Pohřebné – jednorázová dávk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pruh"/>
          <p:cNvPicPr/>
          <p:nvPr/>
        </p:nvPicPr>
        <p:blipFill>
          <a:blip r:embed="rId1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"/>
          <p:cNvSpPr/>
          <p:nvPr/>
        </p:nvSpPr>
        <p:spPr>
          <a:xfrm>
            <a:off x="684360" y="260280"/>
            <a:ext cx="8459640" cy="49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Především rodinné dávky podporující příjmy rodin s nezaopatřenými dětmi ve stanovených sociálních situacích – </a:t>
            </a:r>
            <a:r>
              <a:rPr b="1" lang="cs-CZ" sz="2500" spc="-1" strike="noStrike" u="sng">
                <a:solidFill>
                  <a:srgbClr val="000000"/>
                </a:solidFill>
                <a:uFillTx/>
                <a:latin typeface="Arial"/>
              </a:rPr>
              <a:t>narození dítěte, péče o malé dítě, nedostatečný příjem, bydlení, úmrtí v rodině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Princip solidarity rodin s vysokými příjmy nízkopříjmovými rodinami a bezdětných s rodinami s dětm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pruh"/>
          <p:cNvPicPr/>
          <p:nvPr/>
        </p:nvPicPr>
        <p:blipFill>
          <a:blip r:embed="rId1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684360" y="260280"/>
            <a:ext cx="8459640" cy="71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odičovský příspěv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Arial"/>
                <a:ea typeface="Arial"/>
              </a:rPr>
              <a:t>Určen pro podporu rodičů, kteří osobně, celodenně a řádně pečují o nejmladší dítě v rodině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Arial"/>
                <a:ea typeface="Arial"/>
              </a:rPr>
              <a:t>Jedná se o dávku netestovanou, je poskytována nezávisle na výši příjmu v rodině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Arial"/>
                <a:ea typeface="Arial"/>
              </a:rPr>
              <a:t>Peněžitá, opakující se dávka, jejímž účelem je zlepšit podmínky rodin pečujících o malé dět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Arial"/>
                <a:ea typeface="Arial"/>
              </a:rPr>
              <a:t>Nejprve mateřský příspěvek → od 1990 rodičovský příspěvek upravený samostatným zákonem → od října 1995 se stal dávkou státní sociální podpory zahrnutou pod zákon č. 117/1995 Sb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P prošel řadou změn, které souvisí právě s trendem slaďování rodinného a profesního život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pruh"/>
          <p:cNvPicPr/>
          <p:nvPr/>
        </p:nvPicPr>
        <p:blipFill>
          <a:blip r:embed="rId1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684360" y="260280"/>
            <a:ext cx="8459640" cy="64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ýdělečná činnost rodič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Arial"/>
                <a:ea typeface="Arial"/>
              </a:rPr>
              <a:t>Původní záměr RP – náhrada za ušlý zis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Arial"/>
                <a:ea typeface="Arial"/>
              </a:rPr>
              <a:t>Podmínka omezení výděleční činnosti pro nárok na rodičovský příspěvek se postupně rozvolňoval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Arial"/>
                <a:ea typeface="Arial"/>
              </a:rPr>
              <a:t>Nejprve povolena výdělečná činnost v rozsahu nepřesahujícím dvě hodině denně, v případě jiného pracovního úvazku měsíční příjem nesměl přesáhnout měsíční částku na osobní potřeby rodič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Arial"/>
                <a:ea typeface="Arial"/>
              </a:rPr>
              <a:t>Od 1. 1. 1998 měsíční příjem nesměl přesáhnout měsíční částku na osobní potřeby rodič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pruh"/>
          <p:cNvPicPr/>
          <p:nvPr/>
        </p:nvPicPr>
        <p:blipFill>
          <a:blip r:embed="rId1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684360" y="260280"/>
            <a:ext cx="8459640" cy="63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Arial"/>
                <a:ea typeface="Arial"/>
              </a:rPr>
              <a:t>V období od 1. 10. 2001 do 1. 1. 2004 nebyl na překážku nároku na dávku měsíční příjem z výdělečné činnosti nepřesahující součin částky životního minima na osobní potřeby rodiče a koeficientu 1,5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d 1. 1. 2004 zákon již výdělečnou činnost rodiče neomezuj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nes tedy příjem rodiče není sledová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odič musí zajistit péči jinou zletilou osobou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6T13:46:31Z</dcterms:created>
  <dc:creator>Ministerstvo práce a sociálních věcí</dc:creator>
  <dc:description/>
  <dc:language>en-US</dc:language>
  <cp:lastModifiedBy>Dana Hrabcová</cp:lastModifiedBy>
  <cp:lastPrinted>2015-09-29T12:11:45Z</cp:lastPrinted>
  <dcterms:modified xsi:type="dcterms:W3CDTF">2016-01-11T16:48:36Z</dcterms:modified>
  <cp:revision>345</cp:revision>
  <dc:subject/>
  <dc:title>PowerPoint Presentation</dc:title>
</cp:coreProperties>
</file>